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44F0-D879-4439-9C23-2F5C756D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DB77-E598-4295-800F-F2CFDE91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D3C-C854-463F-848B-DBD29A159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CA6C-0412-44EF-B596-B7547271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3351-BD3D-4C82-8D95-6B64881A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0B9-6F41-4CD9-9ED3-FAB284A0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267-C26F-45A8-A777-DCB6E3C9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26CD-64A3-40F8-A9D8-CB1F71C6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FDD-CDDF-4FF0-873C-B2D842FA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6752-BD83-4866-9702-634637BC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7C00-D0B7-4644-AEDF-71C30676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3C7-EB04-45B5-BB64-9BB090EF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4C8-FB52-4799-9E74-61861D5CF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D66D-D41E-442A-8B98-F75F8710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956-F0A6-4030-AD3D-B4993ACDC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0172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1DF-8E7A-4A2F-96C0-C78932B3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55D-F553-43A7-AFBC-75507EDF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968-6186-4868-A79A-84C5FAA1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0480-1BEE-411A-ACFA-FABC7545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2580-59E3-402F-80C0-69103FD3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211E-0F79-4EF1-8C38-4940C9D7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09CA-C0F8-4D7A-85A5-E4FA1A41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2BD-E605-4C25-B009-AE50CF30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50F-14EA-4E4F-8BDB-38E07036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3C0-32E6-4999-914B-303526FE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C12-3730-4B90-B149-84DB22A4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59A-DB22-44EF-953C-F2B4EEB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62F-7075-4812-912A-9ED1E8C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973-B552-4E25-ADDE-E12D6DF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20D-4AE1-43F7-8139-82022D6A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C1C-EE13-46DA-B7A2-F8374C9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A63-A33B-4736-B7C1-5E6AEA5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F1E-7931-4076-BBC2-4949399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4D2-E363-4812-8E32-1B65ED3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AC7-2CAE-41E7-BA65-184C25532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ac-parentcenter.org/" TargetMode="External"/><Relationship Id="rId2" Type="http://schemas.openxmlformats.org/officeDocument/2006/relationships/hyperlink" Target="mailto:ecac@ecacmail.org" TargetMode="External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nflict is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62320" y="419076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Children’s Assistan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C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rth Carolina’s Parent Training &amp; Informa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s01165_"/>
          <p:cNvPicPr/>
          <p:nvPr/>
        </p:nvPicPr>
        <p:blipFill>
          <a:blip r:embed="rId1"/>
          <a:stretch/>
        </p:blipFill>
        <p:spPr>
          <a:xfrm>
            <a:off x="3273480" y="1752480"/>
            <a:ext cx="2595600" cy="189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cac3-kids 7 Spot Color"/>
          <p:cNvPicPr/>
          <p:nvPr/>
        </p:nvPicPr>
        <p:blipFill>
          <a:blip r:embed="rId2"/>
          <a:stretch/>
        </p:blipFill>
        <p:spPr>
          <a:xfrm>
            <a:off x="685800" y="4419720"/>
            <a:ext cx="1600200" cy="1544400"/>
          </a:xfrm>
          <a:prstGeom prst="rect">
            <a:avLst/>
          </a:prstGeom>
          <a:ln w="0">
            <a:noFill/>
          </a:ln>
        </p:spPr>
      </p:pic>
      <p:sp>
        <p:nvSpPr>
          <p:cNvPr id="52" name="Line 8"/>
          <p:cNvSpPr/>
          <p:nvPr/>
        </p:nvSpPr>
        <p:spPr>
          <a:xfrm>
            <a:off x="609480" y="41148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of the conflict is in “the pa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not IE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d06522_[1]"/>
          <p:cNvPicPr/>
          <p:nvPr/>
        </p:nvPicPr>
        <p:blipFill>
          <a:blip r:embed="rId1"/>
          <a:stretch/>
        </p:blipFill>
        <p:spPr>
          <a:xfrm>
            <a:off x="4784760" y="2257560"/>
            <a:ext cx="2814480" cy="2838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19040" y="5334120"/>
            <a:ext cx="83059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solved in order to have a                   good work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ies which exists outside of the school which are having an impact on the parent o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j0232596[1]"/>
          <p:cNvPicPr/>
          <p:nvPr/>
        </p:nvPicPr>
        <p:blipFill>
          <a:blip r:embed="rId1"/>
          <a:stretch/>
        </p:blipFill>
        <p:spPr>
          <a:xfrm>
            <a:off x="4876920" y="1676520"/>
            <a:ext cx="3598920" cy="3112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343080" y="5181480"/>
            <a:ext cx="8458200" cy="825480"/>
          </a:xfrm>
          <a:prstGeom prst="rect">
            <a:avLst/>
          </a:prstGeom>
          <a:solidFill>
            <a:srgbClr val="a574d0"/>
          </a:solidFill>
          <a:ln w="76320">
            <a:solidFill>
              <a:srgbClr val="74a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lution must include understanding of the issues and a willingness to recognize and problem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can be created or maintained by the need of huma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iden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294935[1]"/>
          <p:cNvPicPr/>
          <p:nvPr/>
        </p:nvPicPr>
        <p:blipFill>
          <a:blip r:embed="rId1"/>
          <a:stretch/>
        </p:blipFill>
        <p:spPr>
          <a:xfrm>
            <a:off x="5334120" y="1905120"/>
            <a:ext cx="2806560" cy="2698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876920" y="4648320"/>
            <a:ext cx="3733560" cy="1191240"/>
          </a:xfrm>
          <a:prstGeom prst="rect">
            <a:avLst/>
          </a:prstGeom>
          <a:solidFill>
            <a:srgbClr val="ffc100"/>
          </a:solidFill>
          <a:ln w="76320">
            <a:solidFill>
              <a:srgbClr val="e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a viable solution to help some of thes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Negotiato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ver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5029200" y="1608120"/>
            <a:ext cx="3048120" cy="2278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4572000" y="54849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Posi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 /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1"/>
          <a:stretch/>
        </p:blipFill>
        <p:spPr>
          <a:xfrm>
            <a:off x="4876920" y="2158920"/>
            <a:ext cx="3535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olv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/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 are the real underlying needs that we want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j0383320[1]"/>
          <p:cNvPicPr/>
          <p:nvPr/>
        </p:nvPicPr>
        <p:blipFill>
          <a:blip r:embed="rId1"/>
          <a:stretch/>
        </p:blipFill>
        <p:spPr>
          <a:xfrm>
            <a:off x="4932360" y="2257560"/>
            <a:ext cx="35146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5"/>
          <p:cNvSpPr/>
          <p:nvPr/>
        </p:nvSpPr>
        <p:spPr>
          <a:xfrm rot="20872800">
            <a:off x="533520" y="4952880"/>
            <a:ext cx="2743200" cy="58140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600200" y="457200"/>
            <a:ext cx="5943600" cy="52056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are based on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762120" y="2057400"/>
            <a:ext cx="76197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re often based on                     causes of the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4572000" y="1143000"/>
            <a:ext cx="0" cy="68580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572000" y="327672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 flipH="1">
            <a:off x="3575880" y="3296520"/>
            <a:ext cx="581040" cy="566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953960" y="3309840"/>
            <a:ext cx="680400" cy="552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 rot="21559800">
            <a:off x="3772080" y="4677840"/>
            <a:ext cx="1600200" cy="581400"/>
          </a:xfrm>
          <a:prstGeom prst="rect">
            <a:avLst/>
          </a:prstGeom>
          <a:solidFill>
            <a:srgbClr val="a57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 rot="21265800">
            <a:off x="380520" y="3733920"/>
            <a:ext cx="2819520" cy="581400"/>
          </a:xfrm>
          <a:prstGeom prst="rect">
            <a:avLst/>
          </a:prstGeom>
          <a:solidFill>
            <a:srgbClr val="6dc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562720" y="6019920"/>
            <a:ext cx="22096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 rot="336600">
            <a:off x="6095520" y="3657600"/>
            <a:ext cx="2667240" cy="581400"/>
          </a:xfrm>
          <a:prstGeom prst="rect">
            <a:avLst/>
          </a:pr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 rot="598800">
            <a:off x="5866920" y="4952520"/>
            <a:ext cx="289584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066680" y="6019920"/>
            <a:ext cx="35053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 Elements of Negoti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(BAT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tim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638680" y="2286000"/>
            <a:ext cx="2362320" cy="297432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Elements of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rns, wants, needs, hopes and fears that underlie and motivate the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ways of dealing with th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happen without                                           an agreement (BAT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nflict is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 occurs when one party decides that the way things are going is not okay and seeks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t that change is not agreed to                by the other par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s01165_"/>
          <p:cNvPicPr/>
          <p:nvPr/>
        </p:nvPicPr>
        <p:blipFill>
          <a:blip r:embed="rId1"/>
          <a:stretch/>
        </p:blipFill>
        <p:spPr>
          <a:xfrm>
            <a:off x="3273480" y="2057400"/>
            <a:ext cx="2595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Elements of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timac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n agreement f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of what each party is                    willing to do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tern of interaction in and                     outside of the IE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552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85680" rIns="8568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you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reach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1400" bIns="41400" anchor="t">
            <a:normAutofit fontScale="97000"/>
          </a:bodyPr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in Off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7 Barr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tes 102/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son, NC  28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-962-6817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ll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4-892-13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6-740-4135 toll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h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6-545-5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ac-parentcenter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ac@ecacmai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6354720" y="365040"/>
            <a:ext cx="2657520" cy="1895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164200" y="800280"/>
            <a:ext cx="17445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take                 “ two-to-tango”        but it only takes      one party to       declare a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j0137355[1]"/>
          <p:cNvPicPr/>
          <p:nvPr/>
        </p:nvPicPr>
        <p:blipFill>
          <a:blip r:embed="rId1"/>
          <a:stretch/>
        </p:blipFill>
        <p:spPr>
          <a:xfrm>
            <a:off x="5410080" y="1557360"/>
            <a:ext cx="2960640" cy="374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n00011_"/>
          <p:cNvPicPr/>
          <p:nvPr/>
        </p:nvPicPr>
        <p:blipFill>
          <a:blip r:embed="rId2"/>
          <a:stretch/>
        </p:blipFill>
        <p:spPr>
          <a:xfrm>
            <a:off x="1752480" y="4038480"/>
            <a:ext cx="1625760" cy="182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6781680" y="3962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 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181480" y="2506680"/>
            <a:ext cx="2362320" cy="297432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j0193348[1]"/>
          <p:cNvPicPr/>
          <p:nvPr/>
        </p:nvPicPr>
        <p:blipFill>
          <a:blip r:embed="rId1"/>
          <a:stretch/>
        </p:blipFill>
        <p:spPr>
          <a:xfrm>
            <a:off x="5367240" y="4713120"/>
            <a:ext cx="2743200" cy="1835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Caus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nflicts will have one or more of the elements as root cau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19874_[1]"/>
          <p:cNvPicPr/>
          <p:nvPr/>
        </p:nvPicPr>
        <p:blipFill>
          <a:blip r:embed="rId2"/>
          <a:stretch/>
        </p:blipFill>
        <p:spPr>
          <a:xfrm>
            <a:off x="5410080" y="685800"/>
            <a:ext cx="27655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04920" y="4724280"/>
            <a:ext cx="4572000" cy="947160"/>
          </a:xfrm>
          <a:prstGeom prst="rect">
            <a:avLst/>
          </a:prstGeom>
          <a:solidFill>
            <a:srgbClr val="8b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ution to conflict will match the c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data or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a conflicts have data or factu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s01177_[1]"/>
          <p:cNvPicPr/>
          <p:nvPr/>
        </p:nvPicPr>
        <p:blipFill>
          <a:blip r:embed="rId1"/>
          <a:stretch/>
        </p:blipFill>
        <p:spPr>
          <a:xfrm>
            <a:off x="1600200" y="4114800"/>
            <a:ext cx="2666880" cy="218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j0309604"/>
          <p:cNvPicPr/>
          <p:nvPr/>
        </p:nvPicPr>
        <p:blipFill>
          <a:blip r:embed="rId2"/>
          <a:stretch/>
        </p:blipFill>
        <p:spPr>
          <a:xfrm>
            <a:off x="5964120" y="1828800"/>
            <a:ext cx="22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814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arise over a relationship or a communica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often be a “hidden” reason for   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137125[1]"/>
          <p:cNvPicPr/>
          <p:nvPr/>
        </p:nvPicPr>
        <p:blipFill>
          <a:blip r:embed="rId1"/>
          <a:stretch/>
        </p:blipFill>
        <p:spPr>
          <a:xfrm>
            <a:off x="4419720" y="2743200"/>
            <a:ext cx="4101840" cy="228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54120" y="5562720"/>
            <a:ext cx="78483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issues must be addres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 or actual incompatibilities in their belie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ces in expectations become a value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d06553_[1]"/>
          <p:cNvPicPr/>
          <p:nvPr/>
        </p:nvPicPr>
        <p:blipFill>
          <a:blip r:embed="rId1"/>
          <a:stretch/>
        </p:blipFill>
        <p:spPr>
          <a:xfrm>
            <a:off x="5562720" y="2127240"/>
            <a:ext cx="2733480" cy="2603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033560" y="5562720"/>
            <a:ext cx="7086600" cy="581400"/>
          </a:xfrm>
          <a:prstGeom prst="rect">
            <a:avLst/>
          </a:prstGeom>
          <a:solidFill>
            <a:srgbClr val="4a3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have a values base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over real or perceived scarcity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versus “Promising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j0334336[1]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2062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762120" y="5562720"/>
            <a:ext cx="7619760" cy="581400"/>
          </a:xfrm>
          <a:prstGeom prst="rect">
            <a:avLst/>
          </a:prstGeom>
          <a:solidFill>
            <a:srgbClr val="ced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lexibility and creativity to re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09:25Z</dcterms:created>
  <dc:creator>Susan Suda</dc:creator>
  <dc:description/>
  <dc:language>en-US</dc:language>
  <cp:lastModifiedBy>dtillman</cp:lastModifiedBy>
  <dcterms:modified xsi:type="dcterms:W3CDTF">2012-02-23T19:22:47Z</dcterms:modified>
  <cp:revision>35</cp:revision>
  <dc:subject/>
  <dc:title>How conflict is created</dc:title>
</cp:coreProperties>
</file>